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3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205-55E0-4A25-811C-CF23656C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4B1-3A3B-40D9-9FED-A1DDE146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C1A-3B52-490B-B74E-DA25D18E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2BB-DE4E-4618-84A9-13D7C519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4319-F7C5-4C1F-B238-746EDBDA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32D8-0919-44BB-ABF2-5D4F4B8D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99C1-B965-4626-B405-AAE621EA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2778-E52D-4751-BC89-1978D3D4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EED8-C1D2-4166-B715-207301A1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F058-0894-44EE-8B1A-D23FE2BE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5B59-3B83-4C6B-907E-5947240E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C97-1DD1-4C57-A8BB-F79A9604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86E0-9F7B-4B79-8F4F-52E9297A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ADA9-00EC-4668-BF65-14160693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0006-6B75-4E7F-A06E-E24A58CF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5EE6-F31E-45D1-BB56-C91F9AF5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89BD-D1D1-4A56-85A3-C556C86E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68B92-FC40-402D-91CB-E231B481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0A01A-E435-4E16-9569-F30F30E5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A620-90C9-4A26-9FBB-BC0F6061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72D3-37CB-4D0A-95B2-A3658142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ED22-21A8-47B1-A1CF-8DA18068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A08-06BF-4AA2-944A-3CE36991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E3D8-27CD-44C7-B0DA-3A29992A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6F218-D12A-4215-BB67-54181DF4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CD5F-EF18-4CDC-B3DE-9897F7A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7125-F574-4351-AFF0-FDA4450A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BB7BA-22CD-4D8C-ABA4-2CF5A09E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AA15-725B-4F4A-9160-808C9085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1ACC-80E6-4576-ABD2-5B56B1B6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6CEF4-5A56-486A-86D0-B2973915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DCE5-0A89-4419-A231-776E06DD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333E6-5796-4F4E-A544-19D00025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0A5-CCFA-4CB7-9F4D-1BEEB0D5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4B9B-05D1-4DDF-83B6-05C5D5DC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AA23F-78C4-496E-8EE6-DBFE270A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E86AD-5102-4AB5-8A21-59498FB7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7D8A-7A74-4514-A222-07309CC6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F4B47-F8AB-4E52-BE6C-E51C7CD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07015-6239-43AC-8F6B-16AF113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3EDBB-E13C-4C71-91B6-27583A8B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E818-87A0-4765-BD07-24C034B6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FA38B-DE83-4178-BD9A-195A5E93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8FFA8-F6EC-4602-9CAC-D50BFE5A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EFD-D782-4FC7-B676-72584EC3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A20E-F5AE-46DD-A7D1-D47DF733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F3051-EFC6-489B-AEA7-9645592F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93F5F-A10E-44BF-9F75-66320223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E2386-2534-4540-8492-5934D20C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05372-AE52-4449-9FC2-DFAFB397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C5EB-BB54-4B59-9F22-C4F24A32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5342-48B1-4F34-8DB5-C7CD7A18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2DC67-1F95-4D9D-9F67-0D30250A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A832A-5EE6-4A71-B863-CA2BF629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F6EB1-68EA-47AE-94D3-CA4A6382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3A7-169F-4814-BE73-A79BD1B0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3A883-5809-42CA-9D05-19106E0F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E6B-16A3-4629-91E8-F0FD6ACC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AF1-99E8-4600-A9B2-344E4FEF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C6F-59EB-4FA9-9CB7-4DB321B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772A-39B5-43DA-B375-757031C7FD9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2348-BFBF-42F7-8BCF-1E0105D7B59D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3079-649C-4FBE-A392-349DD40CF58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2114-24E2-4ACE-81B2-611971FC9DDF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2F13-1815-4454-BF6C-1EE34D8724B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425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МЕТОДИЧЕСКОЙ РАЗРАБОТК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 для педагогов ДОУ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Жить играючи - легко!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педагог-психолог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нникова Татьяна Васильев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15920" y="176040"/>
            <a:ext cx="8021520" cy="1189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071960" y="135720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на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изируют: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происходит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Например, если мы сильно проголодались, то почувствуем раздражение, а следом и импульс к действию. А удовлетворив эту потребность,  наверняка будем переживать радость и удовольствие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дают нам импульс к действию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В примере с голодом приспособлением  будет поиск еды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ции помогают на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х себя услышать и отрегулировать. 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уем усталость – отдыхаем, чрезмерное напряжение – расслабляемся. Эмоции говорят нам, когда пора остановиться, передохнуть, позаботиться о себе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носят коммуникативный характер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омогают человеку выразить себя в общении, понять другого, почувствовать связь или, наоборот, установить безопасную дистанцию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помогают на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ь безопасность ситуации и окружения.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Если мы способны чувствовать страх, то мы позаботимся о своей безопасности, и «не зная броду, не полезем в воду». Если же потерян контакт с эмоциями, то и страх не в доступе. 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Дмитрий\Desktop\82295.jpg"/>
          <p:cNvPicPr/>
          <p:nvPr/>
        </p:nvPicPr>
        <p:blipFill>
          <a:blip r:embed="rId2"/>
          <a:stretch/>
        </p:blipFill>
        <p:spPr>
          <a:xfrm>
            <a:off x="0" y="2998800"/>
            <a:ext cx="4422600" cy="3859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14200" y="1428840"/>
            <a:ext cx="4143600" cy="171432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зможно почувствовать настоящую радость без ощущения радости, осознать потерю близкого человека без боли утраты. Через свои эмоции мы проживаем жизнь и если с ними что-то не так, мы теряем способность быть в этом мире по-настоящему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Users\Дмитрий\Desktop\image0_59a7bf58ebf44206002fd382_jpg.jpeg"/>
          <p:cNvPicPr/>
          <p:nvPr/>
        </p:nvPicPr>
        <p:blipFill>
          <a:blip r:embed="rId1"/>
          <a:stretch/>
        </p:blipFill>
        <p:spPr>
          <a:xfrm>
            <a:off x="1225440" y="85680"/>
            <a:ext cx="50230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7272360" cy="1659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285480" y="1928520"/>
            <a:ext cx="3692520" cy="4714920"/>
          </a:xfrm>
          <a:prstGeom prst="rect">
            <a:avLst/>
          </a:prstGeom>
          <a:solidFill>
            <a:srgbClr val="cf96b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ые приемы регуляции организма являются одними из наиболее доступных способов саморегуляции: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ый сон, еда, общение с природой и животными, массаж, движение, танцы, музыка и многое другое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х, улыбка, юмор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ышления о хорошем, приятном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177800" y="1857240"/>
            <a:ext cx="3751560" cy="4786560"/>
          </a:xfrm>
          <a:prstGeom prst="rect">
            <a:avLst/>
          </a:prstGeom>
          <a:solidFill>
            <a:srgbClr val="d788a3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движения типа потягивания, расслабления мышц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пейзажем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цветов в помещении, фотографий, других приятных или дорогих для человека вещей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 (реальное или мысленное) в солнечных лучах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ыхание свежего воздуха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похвалы, комплиментов и п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7255080" cy="1182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14200" y="1599840"/>
            <a:ext cx="3929040" cy="4971960"/>
          </a:xfrm>
          <a:prstGeom prst="rect">
            <a:avLst/>
          </a:prstGeom>
          <a:solidFill>
            <a:srgbClr val="dec2e4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ыханием — это эффективное средство влияния на тонус мышц и эмоциональные центры мозга. Медленное и глубокое дыхание (с участием мышц живота) понижает возбудимость нервных центров, способствует мышечному расслаблению, то есть релаксации. Частое (грудное) дыхание, наоборот, обеспечивает высокий уровень активности организма, поддерживает нервно-психическую напряжен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43720" y="3214440"/>
            <a:ext cx="2055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2" descr="C:\Users\Дмитрий\Desktop\holo.jpg"/>
          <p:cNvPicPr/>
          <p:nvPr/>
        </p:nvPicPr>
        <p:blipFill>
          <a:blip r:embed="rId2"/>
          <a:stretch/>
        </p:blipFill>
        <p:spPr>
          <a:xfrm>
            <a:off x="4500720" y="1677960"/>
            <a:ext cx="334008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7255080" cy="1395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6840" y="1599840"/>
            <a:ext cx="3521160" cy="1685880"/>
          </a:xfrm>
          <a:prstGeom prst="rect">
            <a:avLst/>
          </a:prstGeom>
          <a:solidFill>
            <a:srgbClr val="cf96b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оздействием психических нагрузок возникают мышечные зажимы, напряжени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7400" y="1600200"/>
            <a:ext cx="4071960" cy="5043600"/>
          </a:xfrm>
          <a:prstGeom prst="rect">
            <a:avLst/>
          </a:prstGeom>
          <a:solidFill>
            <a:srgbClr val="eee0f1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х расслаблять позволяет снять нервно-психическую напряженность, быстро восстановить силы. Как правило, добиться полноценного расслабления сразу всех мышц не удается, нужно сосредоточить внимание на наиболее напряженных частях тела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8" name="Picture 2" descr="C:\Users\Дмитрий\Desktop\15-2_400400.jpg"/>
          <p:cNvPicPr/>
          <p:nvPr/>
        </p:nvPicPr>
        <p:blipFill>
          <a:blip r:embed="rId2"/>
          <a:stretch/>
        </p:blipFill>
        <p:spPr>
          <a:xfrm>
            <a:off x="500040" y="342900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7255080" cy="1011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285840" y="1356840"/>
            <a:ext cx="2928960" cy="5357880"/>
          </a:xfrm>
          <a:prstGeom prst="rect">
            <a:avLst/>
          </a:prstGeom>
          <a:solidFill>
            <a:srgbClr val="cf96b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ое воздействие задействует сознательный механизм самовнушения, идет непосредственное воздействие на психофизиологические функции организма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14440" y="1356840"/>
            <a:ext cx="4484520" cy="2357640"/>
          </a:xfrm>
          <a:prstGeom prst="rect">
            <a:avLst/>
          </a:prstGeom>
          <a:solidFill>
            <a:srgbClr val="f1d7e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и самовнушений строятся в виде простых и кратких утверждений, с позитивной направленностью (без частицы «не»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2" descr="C:\Users\Дмитрий\Desktop\Психолог1.jpg"/>
          <p:cNvPicPr/>
          <p:nvPr/>
        </p:nvPicPr>
        <p:blipFill>
          <a:blip r:embed="rId2"/>
          <a:stretch/>
        </p:blipFill>
        <p:spPr>
          <a:xfrm>
            <a:off x="3214800" y="3786120"/>
            <a:ext cx="47718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7255080" cy="1182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C:\Users\Дмитрий\Desktop\e0109e7e92db6cee90170e238b24dc62.jpg"/>
          <p:cNvPicPr/>
          <p:nvPr/>
        </p:nvPicPr>
        <p:blipFill>
          <a:blip r:embed="rId2"/>
          <a:stretch/>
        </p:blipFill>
        <p:spPr>
          <a:xfrm>
            <a:off x="428760" y="1571760"/>
            <a:ext cx="7511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7255080" cy="731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214200" y="1071720"/>
            <a:ext cx="3764160" cy="557208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регулирующей функции психик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у участников процесса самопознания, с целью оптимизации отношения к себе и своей личност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созданию благоприятного психологического климата в коллективе и межличностных отношений с коллега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активизации личностных ресурсных состояний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диапазона творческих способностей участнико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786200" y="1600200"/>
            <a:ext cx="291312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2" descr="C:\Users\Дмитрий\Desktop\depositphotos_145026291-stock-illustration-little-girl-anatomy-in-full.jpg"/>
          <p:cNvPicPr/>
          <p:nvPr/>
        </p:nvPicPr>
        <p:blipFill>
          <a:blip r:embed="rId2"/>
          <a:stretch/>
        </p:blipFill>
        <p:spPr>
          <a:xfrm>
            <a:off x="4214880" y="1571760"/>
            <a:ext cx="365112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71520" y="317520"/>
            <a:ext cx="7419960" cy="762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285560"/>
            <a:ext cx="3521160" cy="5357880"/>
          </a:xfrm>
          <a:prstGeom prst="rect">
            <a:avLst/>
          </a:prstGeom>
          <a:solidFill>
            <a:srgbClr val="f1d7e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тельный стиль общения(одно из его отличий- называние друг друга на «ты», что психологически уравнивает членов группы и ведущего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по принципу «здесь и теперь» (говорить о том, что волнует участников в данный момент, и обсуждать то, что происходит в группе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ификация высказываний (отказ от безличных речевых форм, высказывание суждений в форме «Я считаю…», «Я думаю…»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енность в общении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непосредственных оценок человека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57400" y="1599840"/>
            <a:ext cx="4071960" cy="197172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ДЕНЦИАЛЬНОСТЬ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ящее на занятии не выносится за пределы группы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Users\Дмитрий\Desktop\images (1).jpg"/>
          <p:cNvPicPr/>
          <p:nvPr/>
        </p:nvPicPr>
        <p:blipFill>
          <a:blip r:embed="rId2"/>
          <a:stretch/>
        </p:blipFill>
        <p:spPr>
          <a:xfrm>
            <a:off x="4214880" y="3643200"/>
            <a:ext cx="37465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34800" y="249120"/>
            <a:ext cx="7328160" cy="11829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1571760"/>
            <a:ext cx="4257720" cy="235728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едагога отличается повышенной эмоциональной нагрузкой, которая, в совокупности с другими факторами, может привести к синдрому эмоционального выгорания.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857840" y="1714680"/>
            <a:ext cx="27144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C:\Users\Дмитрий\Desktop\deti.png"/>
          <p:cNvPicPr/>
          <p:nvPr/>
        </p:nvPicPr>
        <p:blipFill>
          <a:blip r:embed="rId2"/>
          <a:stretch/>
        </p:blipFill>
        <p:spPr>
          <a:xfrm>
            <a:off x="0" y="3929040"/>
            <a:ext cx="4530600" cy="272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Дмитрий\Desktop\file_15701082575336.jpg"/>
          <p:cNvPicPr/>
          <p:nvPr/>
        </p:nvPicPr>
        <p:blipFill>
          <a:blip r:embed="rId3"/>
          <a:stretch/>
        </p:blipFill>
        <p:spPr>
          <a:xfrm>
            <a:off x="4643280" y="1571760"/>
            <a:ext cx="3297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74246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14200" y="1600200"/>
            <a:ext cx="3764160" cy="247176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о окрашенные психологические состояния педагога снижают эффективность воспитания и обучения детей, приводят к блокировке умственной деятельности и ослаблению волевого потенциала ребенка, вследствие повышения невротизации и формировании различных форм эмоционального перенапряжени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4000320"/>
            <a:ext cx="3521160" cy="2571480"/>
          </a:xfrm>
          <a:prstGeom prst="rect">
            <a:avLst/>
          </a:prstGeom>
          <a:solidFill>
            <a:srgbClr val="f1d7e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конфликтность во взаимоотношениях с коллегами, родителями воспитанник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ют возникновению и закреплению в характере личности и профессиональных качествах негативных чер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о влияют на здоровье самого воспитател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2" descr="C:\Users\Дмитрий\Desktop\228866.jpg"/>
          <p:cNvPicPr/>
          <p:nvPr/>
        </p:nvPicPr>
        <p:blipFill>
          <a:blip r:embed="rId2"/>
          <a:stretch/>
        </p:blipFill>
        <p:spPr>
          <a:xfrm>
            <a:off x="214200" y="4143240"/>
            <a:ext cx="3853080" cy="2519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Дмитрий\Desktop\images.jpg"/>
          <p:cNvPicPr/>
          <p:nvPr/>
        </p:nvPicPr>
        <p:blipFill>
          <a:blip r:embed="rId3"/>
          <a:stretch/>
        </p:blipFill>
        <p:spPr>
          <a:xfrm>
            <a:off x="4143240" y="1571760"/>
            <a:ext cx="35863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7255080" cy="87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428760" y="1143000"/>
          <a:ext cx="7358040" cy="5357880"/>
        </p:xfrm>
        <a:graphic>
          <a:graphicData uri="http://schemas.openxmlformats.org/drawingml/2006/table">
            <a:tbl>
              <a:tblPr/>
              <a:tblGrid>
                <a:gridCol w="7358040"/>
              </a:tblGrid>
              <a:tr h="535788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худшение отношений с коллегами и родственниками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растающий негативизм по отношению к другим (коллегам, детям….)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трата чувства юмора, постоянное чувство неудачи, вины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вышенная раздражительность (дома и на работе)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порное желание переменить род занятия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То и дело возникающая рассеянность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Нарушение сна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Обостренная восприимчивость к инфекционным заболеваниям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Повышенная утомляемость, чувство усталости на протяжении рабочего дн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e3af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115920" y="317520"/>
            <a:ext cx="7918560" cy="8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642960" y="4786200"/>
            <a:ext cx="22147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143400" y="2643120"/>
            <a:ext cx="15555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Users\Дмитрий\Desktop\ustalost-772x473.jpg"/>
          <p:cNvPicPr/>
          <p:nvPr/>
        </p:nvPicPr>
        <p:blipFill>
          <a:blip r:embed="rId2"/>
          <a:stretch/>
        </p:blipFill>
        <p:spPr>
          <a:xfrm>
            <a:off x="285840" y="1285920"/>
            <a:ext cx="5013360" cy="3071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Дмитрий\Desktop\depositphotos_50644327-stock-illustration-businessman-low-energy-and-needs.jpg"/>
          <p:cNvPicPr/>
          <p:nvPr/>
        </p:nvPicPr>
        <p:blipFill>
          <a:blip r:embed="rId3"/>
          <a:stretch/>
        </p:blipFill>
        <p:spPr>
          <a:xfrm>
            <a:off x="3714840" y="2071800"/>
            <a:ext cx="4278240" cy="442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Users\Дмитрий\Desktop\cWPq37LM-580.jpg"/>
          <p:cNvPicPr/>
          <p:nvPr/>
        </p:nvPicPr>
        <p:blipFill>
          <a:blip r:embed="rId4"/>
          <a:stretch/>
        </p:blipFill>
        <p:spPr>
          <a:xfrm>
            <a:off x="500040" y="4672080"/>
            <a:ext cx="2916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304920"/>
            <a:ext cx="7255080" cy="106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Users\Дмитрий\Desktop\3-33460_1_6.jpg"/>
          <p:cNvPicPr/>
          <p:nvPr/>
        </p:nvPicPr>
        <p:blipFill>
          <a:blip r:embed="rId2"/>
          <a:stretch/>
        </p:blipFill>
        <p:spPr>
          <a:xfrm>
            <a:off x="214200" y="1428840"/>
            <a:ext cx="7786800" cy="5191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14200" y="1356840"/>
            <a:ext cx="4500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я уровень своей эмоциональной культуры, приобретая навыки саморегуляции и восстановления своего эмоционального состояния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14360" y="317520"/>
            <a:ext cx="7321680" cy="68904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3" descr="content_koleso_emotsiy__econet_ru.jpg"/>
          <p:cNvPicPr/>
          <p:nvPr/>
        </p:nvPicPr>
        <p:blipFill>
          <a:blip r:embed="rId2"/>
          <a:stretch/>
        </p:blipFill>
        <p:spPr>
          <a:xfrm>
            <a:off x="928800" y="1071720"/>
            <a:ext cx="6072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1T01:19:37Z</dcterms:created>
  <dc:creator>Дмитрий</dc:creator>
  <dc:description/>
  <dc:language>en-US</dc:language>
  <cp:lastModifiedBy>Дмитрий</cp:lastModifiedBy>
  <dcterms:modified xsi:type="dcterms:W3CDTF">2019-11-17T15:34:21Z</dcterms:modified>
  <cp:revision>31</cp:revision>
  <dc:subject/>
  <dc:title>Слайд 1</dc:title>
</cp:coreProperties>
</file>